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6A6-706C-4D66-8711-65C28C81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8A6-4571-4CA1-A139-99DDF1EC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A43A-CB13-441B-BC3E-B0D2D6BA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EE3-F19F-4ECB-8722-ACD35360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EB12-980A-4182-AA17-2394B4DD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3383-A656-4B9E-B8B7-28AA5010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72DE-9F7A-4294-AEAE-6085585E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EC91-C051-4B8B-A548-574296E2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B00D-56F9-4BBC-829B-A5D22573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F51A-128F-47CF-9902-DFF5AE8E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4EB4-4174-4BC1-9A89-6E93E924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B0F5-60D4-48C1-A286-EB980919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4067-F812-4F76-A8B6-A584428B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004C-8ACB-4C36-9384-AC73E00A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F8DD-397C-4931-85F1-70D025A7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ED96-2A54-4197-9882-276B7814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0BBD-D157-40C0-8991-088482B0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B32-DC25-4236-A16E-CD278B24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BA1-46A1-4F69-A688-3F897F1A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DF2-A3B3-4FB6-B3B1-14651056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F27-F757-40D9-84B8-15D5ED1E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E02-71D7-4A3E-AAA8-A8DCB336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851-953F-4DB3-B6BF-4C149C08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88B-90CE-48DB-83CB-D15FFA42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C006-C417-43F7-A6E9-7F69C3B6CE30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11CF-CCBC-4FD0-83F6-42B16A6CD52A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MEMPHYS M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sent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1280" y="404280"/>
            <a:ext cx="76388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vent Generato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Tahoma"/>
              </a:rPr>
              <a:t>NUANC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beam,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tmospheric &amp; Proton Dec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imulatio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ersion 0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dapted from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Geant 4 cod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used by M. Fechner et al. for T2K-WC-2km. The simulation was x-checked using SK &amp; K2K data.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Water &amp; PMT &amp; Black sheet optical paramet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rent version 7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terface with the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OpenScientist v16r0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framework (G. Barrand@LAL) provided using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distribution ki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including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Geant4 &amp; CLHEP &amp; AIDA-IO implementation to RIO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also HDF5, XM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3 modes of running in the same framework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just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active Viewing, Batch processing, AIDA_ROOT analy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260280"/>
            <a:ext cx="76388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rent version 7 (Cont’ed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vent info from 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imary + non-Optical photons track inf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its: each PM maintain a list of arrival time of optical photons detected (i.e photo-cathod efficien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uture develop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Code review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o improve the geometry implementation, clean up the patches used to adapt the code from T2K-WC to MEMPHYS use c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mplement the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electronics simulatio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work in collaboration with B. Genolini (IPNO) in the context of PMm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mplement a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Data Model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o be able to do “replay” event-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2665440" cy="2322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87440" y="3355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0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1440" y="33336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2km WC Geo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76720" y="915840"/>
            <a:ext cx="2519280" cy="2295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08160" y="33559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2535120" cy="2332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427440" y="33559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1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203640" y="3860640"/>
            <a:ext cx="3095640" cy="2733840"/>
            <a:chOff x="3203640" y="3860640"/>
            <a:chExt cx="3095640" cy="273384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3203640" y="3860640"/>
              <a:ext cx="309564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626360" y="604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89920" y="5732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92080" y="53737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5320" y="4005360"/>
              <a:ext cx="7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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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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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26400" y="6165720"/>
              <a:ext cx="104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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2Ge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6480000" cy="504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56360" y="0"/>
            <a:ext cx="3887640" cy="3029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814880" y="2852640"/>
            <a:ext cx="927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0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15720" y="915840"/>
            <a:ext cx="219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→e</a:t>
            </a:r>
            <a:r>
              <a:rPr b="0" lang="fr-FR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10520" y="58770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PHYS v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3357720"/>
            <a:ext cx="2313000" cy="146556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active histogram to identify the e Michel optical photon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840" y="186048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Only detected op. phor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5400720" cy="3930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56360" y="1844640"/>
            <a:ext cx="2448000" cy="1927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2209" t="0" r="1341" b="0"/>
          <a:stretch/>
        </p:blipFill>
        <p:spPr>
          <a:xfrm>
            <a:off x="6170760" y="3959280"/>
            <a:ext cx="2433600" cy="1774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237800" y="6308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PHYS v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87080" y="692280"/>
            <a:ext cx="591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atmospheric (1-10Ge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2:20:59Z</dcterms:created>
  <dc:creator>J.E Campagne</dc:creator>
  <dc:description/>
  <dc:language>en-US</dc:language>
  <cp:lastModifiedBy>J.E Campagne</cp:lastModifiedBy>
  <dcterms:modified xsi:type="dcterms:W3CDTF">2007-06-19T09:56:53Z</dcterms:modified>
  <cp:revision>6</cp:revision>
  <dc:subject/>
  <dc:title>MEMPHYS MC</dc:title>
</cp:coreProperties>
</file>